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4D9-0F7F-4569-8144-DF241A30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8B8-A50A-4324-8433-1B1CE94D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6B336-3B79-4265-834B-BD90DD6D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A6FFE-75A1-459D-91F5-521F4447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9B08D-7D2F-47A0-A649-92A981BF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681F4-97BA-4C59-A651-5D0461BF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44C1E-6E8B-49AB-B819-8ECBADFE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CDB50-DFFE-49D1-88A4-2A0D376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7B05A-8237-4814-931F-C2212866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0C45C-73B5-4F81-B0B7-70EC8A10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E13B6-C488-46D8-9991-48AB4650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2F238-A44D-4C75-9A82-BF71CCFA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D18-4FA4-4438-8C3D-0DB6F7E5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91CFE-1E22-4CA6-8E92-57BDD98D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A501E-BD2F-41CF-B82F-A06FDD2A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992A8-61BA-4D87-A79D-AC00C2FA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E94FD-993B-491A-9B86-68D99249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742F6-2031-4361-A9F1-EE6139EF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3A18E-16EE-47C4-AA9E-DB83E8F1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E1EAB-46BE-40B4-A39A-34A242C2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FDF71-BDE4-41AE-BF7E-C758919A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47B2A-6FEF-47AC-A059-2A0D6BCE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37B34-EC3F-40B4-B70C-40D4E7EF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F85-E9F8-4DCD-A0D8-51629F75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CF7AF-C12F-4AEE-8F77-572179C9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E77D5-4B1A-443B-9933-DF4B19E7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522E6-2461-4F2A-9E97-E7D13D41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644E9-8D12-40B5-AE4F-F7EE05A8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ABEC8-4067-4BEF-9A12-FE15E923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10BFC-34A9-4B47-84A4-EC35D436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5C277-5756-47CF-B523-ECC50EEE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1A29A-120A-4932-AA00-B7195A29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E9B48-D56A-4F7A-8EE6-0A6AF2F0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B8B81-8AC9-43AA-8F98-8A0137E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A33B-F25E-41D7-B2A5-F67A411A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4234B-FFA1-4236-943F-29D2C7AE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027C0-FFB9-4464-BED2-DF22D009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8BF2A-6DAF-4C81-85DB-86E57111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08B8A-A3A2-4609-B756-87D83E71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1A629-1F76-4D29-9432-EFE81B25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5A763-96F9-404D-A183-90C524BB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39C03-8EEF-4A24-8735-B8E5200C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971BD-C060-44CA-A004-E7607F08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DFBDF-129B-4FD1-9E9B-B14B01AE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47CD2-FE97-4CAD-BAAC-74875E56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12A9-28ED-4715-A1F5-9811726E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58E1B-DEAC-4D76-B83B-FB983721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9F60F-C38C-4DC6-AD86-0F4DBBD6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3685B-F306-4D29-8625-E985EF6F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4C406-0928-46D4-83EA-24776C15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85C72-3358-4479-8A21-22B40DA6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BDA8B-0FF1-44FE-9F37-F6B3AC30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3076E-1D0F-48F1-951A-0049A9C0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1F40B-DB47-4812-A8E3-6BE2218D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738B3-C474-40EA-9B44-DF5EA117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4833E-A909-4D90-8C86-2B634D0A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91AE-ADDA-4545-A3DC-DF3C3A25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3416C-E837-4D76-A39B-8979E2D3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664AF-E6D7-43B1-93C0-899CFF81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2BC04-B986-4DC9-8BF6-6FCF0E8B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6DD1E-DDC4-4C43-84AA-90EC4E6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99AB2-8DD2-42BB-AA53-E61649CE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F3193-9FB0-4C97-BBBB-E41447E7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13F87-ED6E-4989-91F6-EA9DD1A2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5E9500-C222-457C-AED0-1568AD57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56E64-36BD-4974-93C5-7AC54216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BBC23-4847-4DDE-9B76-31C94F9E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468C-764B-4931-A23B-C1F94050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778CE-8C96-4E03-9FEB-F0FDE6B1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296F5-1223-406A-BA2A-ED5978E7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E63E5-FD7E-440C-8581-2081C701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95A1D-8703-49C2-92AD-13E743F0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55A5C-262D-4355-84D1-50DCAB5E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9795F-A26D-4A3D-9521-DD0A8E2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2671E-FB8C-4DB1-AD19-BA8537E9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F12FC-EC23-4C88-B1FA-BCC9B6C4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8721B-6829-428C-95B2-EBDAF279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B686A-8F85-4374-907B-85FBF915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1CE5-753D-43AE-91A1-C21FC5AE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9023AC-BE2E-4B19-83E3-4E2C4804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8DAB0-DEDB-4687-8EF1-0638E34D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40B02-9B94-4F69-8EA6-0E8FE4BF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ED62F-E33D-4F71-89A0-2A945D1D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BDF12C-A50A-47A2-8613-917A2D9E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8DC65-9104-47C7-84D0-E299273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2E66D-7682-408E-AB19-095D0772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7815EA-FDF6-4060-A6AD-C0EDDC35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ECDB8-1274-4410-822C-A587A48B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4F12D-91D7-45F3-9612-DD552A0B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C95F-61EB-4A76-A403-F25E5890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61CE2-21E6-4834-9130-7B4D6687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CCC72B-7500-4897-9D5C-EA78872A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5A6D5-E325-419E-B79F-12C68B75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67EE9-1B37-47DE-B1C8-F6B6CBE5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DAA17E-576B-46B9-ADF1-D7406A94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127A9-39BA-44A6-84BA-0058E6EF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EDAC2-ED9A-4B7B-8EFE-5F80B0A4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BAEE0-C55C-4A44-8E55-48EEA87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5B769-7DAA-4757-A2E3-648B15BD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9162A-3932-4825-980A-DD097BE6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AE36-6BD0-4EA1-8B42-8209CB16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53291-6367-4266-A71F-6961C599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D774B-E00C-49D4-BF81-CE438209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E19C6-1B5F-429D-9CE0-39E07135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A476B-818E-48B5-8957-5C92C81C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D6B65-6F38-4593-BB58-67AD943A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B4B61-972C-4349-9901-EF288E57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1F386-2AF9-4755-942F-7D1EB055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0D27D-F94E-401B-98AE-016FA542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55FFA-79AC-4404-B1B9-DECCC36B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03B2B-9EFF-45EF-9019-EC71DADA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6B0-C1F5-44C0-BC54-10033282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6288-467B-4A8A-AA23-6E2F2413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D73C5-8A4A-4F36-AB05-CED9C415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F0A709-0502-4C00-93FD-EE366B67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211A0-A187-455C-BBC8-2B4B09BD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1F15E-9A2A-4BF7-8FD6-EB48675C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3DF5F5-8AD5-4E4C-8D50-2E1076CF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02F54-F271-419E-87A7-D22A604A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E265BA-4747-42B3-9D51-0ACD89E1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50ACA1-9FB7-4AA0-BF8B-F5051982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3A40E-A4F9-4CC8-9AC0-7603473D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D2A59-68AC-4249-8A60-3493E529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33F4-3AA0-4507-AA85-2B32E739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769DA-7CB9-4E80-8FE1-BBB56B37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9CDF4F-E56A-47CB-B4D4-08C43D9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ECB86E-2F25-4219-85B2-B9D2BBE2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A610D0-8645-44CF-85BC-F37DBB35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1828E-6E8A-4F47-86DC-A55C3C6D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DBB54-09A4-4446-A550-8E93D0A5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C2936-F145-4187-8DF5-110943EB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8E278A-88B6-422A-9A35-3FDEE177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00B22D-FC15-437F-9586-2BC3E089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30E93-8730-4B6D-9D44-1A3B879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7AC5-685A-4C7C-8BFA-A4C78368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83B12F-E375-4D89-A409-873982FB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EB973-AFB8-4680-BDEE-6493E3FA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4D6FE9-2671-4426-95EC-3C6EF464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F0281-BB2E-4164-A564-443745D9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610803-C9B3-4970-B115-FDFDEFC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3E412A-575F-4408-A945-EE7309B6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1D595-4BC4-4661-B0FF-27FE139F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279CD0-5FFA-41CD-A840-4AAFAD7C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58F720-CEF7-488F-AFCF-245A6647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58207A-0DA9-4080-A9B3-33D59D9E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0643-45D8-49F1-AA8C-AC3FCA10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440EB7-2001-4219-9CAE-1496269B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B745F-538F-44B8-A3E5-A28289E2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9EBBF-1C5D-4358-BC6A-40729F9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48E2C-0E08-4EB2-9422-DA025C82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C939C-01B8-48C0-AF0C-AB700B08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3D6BB-9CC6-4407-973B-461B4EE4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7F60E4-8606-470A-8327-C60C8ADB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00AF4E-8D9B-459D-AB60-06475076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9C035F-4E0A-4E67-89A6-9A9449B6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0316E3-39C7-484D-BFB7-EBFEC9BB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136A-2A35-4621-BA6A-8A9101B8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867EBA-D104-4F30-9BD9-C15E48C8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851BEF-B937-45F4-8078-C3E20841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EEDD9-F354-4CFB-A862-7A86905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DB2EC0-D939-4CA6-BCBD-6DBB6BBC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66D4CC-3088-4DA8-82A9-D1E4904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27671-2E2A-42D5-840D-A33DD07B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87E982-3283-4271-8E34-E327EEF0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C9EB3D-153D-4E57-973C-91CE262A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A19B1C-1D51-493F-8566-4AF014A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A944CC-A651-4AE7-9FAE-7E1F7A66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9107-16F3-477E-B311-ADD6168F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8B53C-52F3-4C98-B882-EE94BDD8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D65318-7F15-4986-9D1C-369FBDBD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3F5B32-2810-4472-9B99-A4D37BE5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685593-A5EF-4B1F-8714-D2E97062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ACE360-ACEB-4F08-9485-F2777E14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7817A0-5A43-4CA0-A9C4-1FC44557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4703D9-3395-47F0-8E7C-ED985EA0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93B395-89AE-4539-8B20-E2C0376D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A0431B-F9FA-40FF-973E-F5CA85AA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CE13C3-D851-4200-ADFB-45A4276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3FD90-58A9-4DDA-A7F5-42667305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AD5B4C-34C5-4491-9BDA-E7B57F3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5CF851-91A8-4DB5-A6BC-F074E6A8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9CD18-AD2C-470D-9A21-EFEB938A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35D059-200A-44EC-8EDB-F6E58C1C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974880-5F33-43DE-A47D-634AAAF5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45FE4B-4F51-454B-9C62-A70B3845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B70F54-246F-4D80-A00C-9BA7E7B1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761D5-A359-46C0-8781-904C6669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A2A722-0F2D-41F8-955D-6DE495B6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81383B-E1BE-4298-8F2F-3122A366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E621D-6CC2-4E3C-867D-2C6C0A4F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AF4B5A-FA07-479A-B826-EB1D3F14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A08E5F-A7DA-4E99-B187-1E087906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97A56B-43F5-484F-9AC4-8DDBD803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F61A99-37B1-45B7-AAA7-1F465016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E87937-85D1-4369-9067-955B56E5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B972D5-9CE1-4C85-899F-A8818493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1B41B2-F7E9-4249-AD32-F0961923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634B65-70C8-4CDA-BE79-FB1D53AF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3F4466-808C-4EE4-BA18-D64A3A58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2AE013-5A81-405E-84E3-11F5145F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33B7A-0AEB-4DA8-846B-1C2412D3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1901F6-8BFD-486F-84EE-69C11C7D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4B3789-E525-4477-9763-FBBF33C1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ADD07E-6A91-430B-A984-AB9EA84C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3BDC79-463A-4741-B3A0-610D95A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8B9602-098D-4F3D-B805-2569226F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ACC813-FB02-40F5-BB7E-A1E947A6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833FDF-37FD-4D34-BA7B-42F76602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A11779-09F3-4E6C-BA43-9B479619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E8CA5F-DC83-4683-9BAF-5D7E272F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2DF25F-1563-4B75-AF14-6B53A389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8D50-D735-4AB4-B372-451509FF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BD2467-B22B-4F6C-B2F4-75F9CB9D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7AB97E-80CB-4C52-9D54-E4DE8107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C69F4A-C588-4A5B-8AE9-FF0D6812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02AD0E-2420-418B-93D0-06041E23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18DD35-462C-418F-BD0B-AEC280CB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D0DF3B-AF02-488E-A5B6-D556905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A90690-4ECE-4590-B27F-6E34BB2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13032E-3153-4468-BCB8-EB6FEDA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D100F0-C831-4530-A475-321C1EFA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426751-9CFA-4493-91F3-32CE3FB4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C37-D924-4B38-939C-65A6E9A3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B969-E484-41A8-84E5-A751B92A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EA50CD-41A3-4448-9D6C-E57C890E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1ED8A4-1D03-4398-B8A7-9DDA6DD1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41210E-237A-4822-A479-E98074BE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808DE7-93A2-409C-AC22-5B5D5869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81BB07-5038-4A76-B82F-6BD7DBFF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AF13FD-85CD-46F6-A775-514BA527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FB445D-EF3C-476C-B29D-8C2E6EC4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146DFA-A8EB-4CC1-AD8E-B7A98593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087AD2-A885-4DDB-B847-3E68956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D9CC3C-32C9-43A0-B492-E0044339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4C6D-F28B-4090-8294-682773B1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777744-6965-41AE-8D4D-9CF683D3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1E39D1-B698-48CF-A5E6-BAE9D477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666B56-415C-4DCF-921C-06950DDE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156662-BDCE-4DC4-96AE-FAC6B2D8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F1E075-32B1-4616-B510-96CB82C6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43BE65-7A64-4B60-BC7E-908C4C9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71B38B-AEF1-496A-B406-033FF0D0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4889CE-BFB9-4A3B-AEF2-4C1B43C4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CACD6C-A04A-42E5-987F-DFC65B5B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BFB969-2773-4274-9F5A-AE1DF1F4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C8F0C-7C4D-440A-AE77-BD21AA4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357D95-91B1-407F-8B57-BE51AAFB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505F18-FE76-49E4-8641-EB705A3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ACB483-F94B-477E-A6EB-32FC1373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C7F2DE-77F2-4671-909E-BC6F188D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A49EBE-3BC0-4EF1-85AE-4BA414CA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D6827C-8444-493A-B1E8-9E67B5DF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85595B-91AF-454B-ABD1-32897E13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4D9F30-111A-48B9-BAF4-4E8FA0E3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059847-785F-46E0-9B10-7E9C5072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CAA5DA-158E-4974-86D1-619D78E0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C167-54AF-4AB8-B29D-D553CC0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94B874-684F-40E7-8ED4-48C4C132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64C82E-55C5-48C9-A4A0-3162ABDC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09905A-5610-4F11-977F-4B72DE8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A307CE-129F-4D28-906B-7855DFAD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BE3C1F-3DA7-449E-8F79-96F9A5FA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CB7A01-D3FA-4EDD-9F67-6B2E8142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7F515B-5C37-482C-90C7-F8EDE42E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EC61C1-5B4E-4329-8517-57727435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E4B78D-98F5-4CA9-AA9A-EE1FA73E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5DBD70-E63F-472C-8CF3-B62FE076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2B659-7483-49FA-915C-9D3230EC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07BB16-AE11-49AC-99CB-872C8FDB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65F954-F09F-4C4B-9767-4D01E306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2D3A05-8D93-4C66-A5E0-2A471C2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99FFF4-32EC-49E3-A7CF-078A95B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B20A9D-597A-4F0B-81D2-7CA4A6A1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F07E63-F7CA-4674-9803-B7BC570F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B88BE8-B32D-4FEF-9DA8-B48BD5AB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788A84-8AD3-4C7E-BE83-44E18B91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43F8F6-5C86-4670-9627-631FBA19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563834-BBB1-4F98-AFA9-1E6972A1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C42F-6EB0-47DF-8E35-C015DD73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F5570E-8BBC-4F20-A4BB-5C772F1A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B2E59C-C2FC-44CF-9BA0-799905DC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7ADE98-0ACF-4CD6-9812-D7E874AC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7F65D2-A2BE-4D1C-8BBA-48BC2E54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92BC1F-BBFA-43E1-A1EE-6BA86186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961DB5-B30A-4F3A-AD13-625E9A7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AFA8E2-FF2E-4A0F-AAAC-BB32826B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A5FD96-781D-4426-8BD4-E158E17A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923C7A-B908-4D98-902E-23C17B6A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5E18CB-5805-4442-B00E-902A915A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710A6-A289-4E87-AF41-211D5D36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E872D4-08E9-45CF-A0EC-F6447FFB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3646D4-8084-4D2A-A483-CDE6CC00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3A3290-85A3-4FDF-9E48-45538052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74D016-10F7-400E-B038-7176D7E3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23EB3A-0621-4BE3-9381-14905DB6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F0BE57-156A-4BC6-AB41-5C566544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E4223E-A037-4AE7-A358-AE629AA4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A4B8F1-8002-48D9-BFCC-3BAA1249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DA5DE5-89ED-4322-AFA9-4E7B4A7F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C1A646-BECE-45D2-8E42-00A482EE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8D75-3B93-49C7-AD92-4FFFA389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8DEBB9-B275-402B-87D0-3D0FE244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C168D5-ED2C-4F51-9A01-57FF18BF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542E64-C362-47CC-B6C4-FA5A750C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E200F-21EF-471D-92B7-19806432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A65F9-5A67-4982-8EA1-950D141A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22B-788A-4BD6-B1B4-37A59588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44335-332B-429C-B2EB-A3395C70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6690-EB2A-47A2-B0F2-2AC771D2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1132D-053C-4CFA-B6D8-C4B95068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343B1-E25E-4006-8F04-1EAF0254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0DAA-E961-4DFC-A2F2-85C4D25A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1EFF2-997B-4F1E-A54C-63D569C5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EC284-21C3-4B82-8A62-C3DF30E4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08E3-3091-4A84-8EA9-0F68EC39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D5EE-CB87-43CA-9D78-E86932EB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E0CB5-A165-4935-8361-0DDB4AB8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714-5EF2-4C7B-B393-A9F46736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434B6-6A5C-4098-89CB-61CC80E9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AEE55-3027-4695-925F-3722C9F8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F569D-49EE-41A6-A3F9-9E424E95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9925-02F1-46BC-B13A-8B840323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F9269-AAAF-4DA1-9038-C99FF118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51280-434D-4DC7-8929-F28DA7C0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DEBB8-449C-48EA-B020-6BFEA0AF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29F9D-EC61-4CB3-A102-78B95001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1D36F-5CC5-420B-BDAB-2AE95842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8C9F4-832A-46D9-BD79-C2B59812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977-19CE-4A2A-A482-36BD09DD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8B7E-F85E-4280-93B4-ACC3901B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CDD00-F9C8-4A66-AF9E-BDB8ABA7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FD392-09B6-4080-875A-BD0AB1A7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394C-7993-4012-BF88-6938CFE3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0F3B7-693B-4EF3-A772-AD37D533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77E8D-B035-4C3A-984F-CE4F2E8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A0D86-56A4-469D-9214-B6A95446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4A5E9-61B9-4409-B075-05ACAC8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75B0D-7BE0-447C-BACC-30B5ADD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F29D9-FB86-4686-9FB3-BCBAD30E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B6D-E45E-4E78-8715-84A67286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78CEC-A780-4E85-9D88-C8464457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2DC0-AF2E-4A22-9F99-4D622C22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CE67C-2E5E-4EED-BFD8-3F460249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68C7A-F349-4676-BBBA-7A253CD6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78AA7-1DA6-474E-8B88-E9CDB8E8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E7B57-D69A-45C4-9122-67414DCF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D092C-F816-4191-BB3D-67B402D8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2A4EC-8FA4-46D1-A3BB-90EC930C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DA296-B97A-4A27-9347-5ED79926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E02E6-BABB-4132-90E3-1121D22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4D0-75BA-4D99-82F5-5B5885C1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88B8C-24D4-4F7D-8D83-5963D7A4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3B8CF-0CFC-4A55-BA0F-C1C90BF6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F1956-F9ED-45A1-BB7A-7B23DE04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40D34-A80F-422B-B00C-D47B6395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B6118-F061-43B9-85E7-B9E7E064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94C23-CE01-40E1-9691-E43F8EF4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8B013-D9F0-472E-AFF5-F82748A2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906A1-4D1F-451A-AF7E-A883D16E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A62C1-24F6-4C79-A336-5682AC2C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AD84F-82BF-4647-B2CB-E6F4150A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079-C2F2-4922-BB8B-131FAF7B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9C11F-BD05-41D6-9FE3-ADC28BCD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2F031-2A80-4ACC-B2DD-0843B912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D4795-0524-49C2-9825-A8036AC1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19FC1-7613-4EBE-AD31-A7D22EF3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498EF-E439-4A6B-860E-8B37A928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7E6F6-0A52-460B-AD2C-8B127F9A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E4068-A3DF-4E43-85B9-82E297B0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53E44-E850-4051-BDD8-EAEEDE8B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2C626-2432-4E12-8B36-4487DC33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A082E-82FE-4EA4-A1A9-2A1129F8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8E92-9D85-4351-864F-8298A2FE63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7E91-9297-48D3-A45A-16DF9FC9B4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DD5B-0516-48C1-9F0B-1B3056BE0F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951A-DFD9-4C6D-B52B-ADB55B7B06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17AE-511C-4BDC-B608-860FE943A4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273E-6140-4812-AEB9-D68F673C79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120A-9A7A-40A6-9C78-ACE01C86BE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2D02-A41B-45FC-A9FE-1FA97E0DDD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8145-88D5-46FF-B9EC-FCB71E1CC8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3CF2-373A-47E8-9DCA-B153E57F38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8C8F-AB83-46F6-9EAD-F2527FD2D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9E5D-25E1-493A-A838-8789A810B7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D790-6B0A-4D3F-B58D-A875C3FDC1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3097-F754-4C52-AE10-C5577D75D4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83A5-5D13-46FC-9AB1-A981EC2683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F420-E5F5-4BF6-83BE-27635ED6C8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0F96-AC16-42D6-A379-3097EA4CF1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60B7-8AFB-4B09-AC61-FBC66F6EAA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70F2-235E-466E-8158-1E89F4646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9D41-1E8D-45DF-B44C-9DE8FB6DAB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2919-DE4D-4B23-B640-6DF6839064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C85B-77B2-4F1A-8B84-6540C1EE05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DA1-2985-407A-BEAA-4F321723B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5E03-794D-4CAE-9A18-F398FC997D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5239-4C3B-43D5-9897-800670F576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CB9D-6F48-4410-81AE-05E39EB65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0A3D-0FB5-4446-BFD2-4FEE7FA29A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9852-F399-43B5-A88C-25DDE0D12A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D1DC-7463-4BF1-B411-92DCD24A85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23AE-F48A-4502-A5EF-2DD33A2BBC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B0F6-4C6F-4E39-8177-B1104C262C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DEB1-7B1B-4C4C-AB13-2098C18A8F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5611-4550-46F2-8914-11CD1F44B0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10B2-3DED-42C9-91D3-CC3B62F0A7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AB05-E80B-4BC4-B5BF-057C0FFC1F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3404-0843-4F15-9399-45D7B86A90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62B6-B89E-4235-B4F5-99D75F574F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58CD-D57B-4098-90BA-A72FD47AC5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3BB8-B915-4FE7-83E2-D6EEE87ACA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C706-B548-4F17-B514-EF2DE9164D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EBC7-E537-4099-8182-949B5E6C85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D45B-CE59-429D-B8DB-8496FA1EF7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1A21-EB3D-4F0A-BF41-C337CD6F85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D1BA-5436-4EF7-ADFD-6542483AB5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B006-8A33-482E-A09C-748A8496B5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E2FC-87EF-45A2-A072-60C4023BFC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8F71-DC2B-4B0E-B0FE-830D5E1F3C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BCFC-84E0-4B46-83A4-A6F8624037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102E-F5A3-473A-9A31-AC9A7B12AC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9480-23FA-45AB-AEB2-7789AB1555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00080" y="2262240"/>
            <a:ext cx="89438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116737" descr=""/>
          <p:cNvPicPr/>
          <p:nvPr/>
        </p:nvPicPr>
        <p:blipFill>
          <a:blip r:embed="rId1"/>
          <a:stretch/>
        </p:blipFill>
        <p:spPr>
          <a:xfrm>
            <a:off x="176040" y="1028880"/>
            <a:ext cx="8791920" cy="480060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16738"/>
          <p:cNvSpPr/>
          <p:nvPr/>
        </p:nvSpPr>
        <p:spPr>
          <a:xfrm>
            <a:off x="8317080" y="112536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15713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8896320" cy="2352600"/>
          </a:xfrm>
          <a:prstGeom prst="rect">
            <a:avLst/>
          </a:prstGeom>
          <a:ln w="0">
            <a:noFill/>
          </a:ln>
        </p:spPr>
      </p:pic>
      <p:pic>
        <p:nvPicPr>
          <p:cNvPr id="1452" name="图片 115714" descr=""/>
          <p:cNvPicPr/>
          <p:nvPr/>
        </p:nvPicPr>
        <p:blipFill>
          <a:blip r:embed="rId2"/>
          <a:stretch/>
        </p:blipFill>
        <p:spPr>
          <a:xfrm>
            <a:off x="2195640" y="3645000"/>
            <a:ext cx="5581440" cy="231444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15715"/>
          <p:cNvSpPr/>
          <p:nvPr/>
        </p:nvSpPr>
        <p:spPr>
          <a:xfrm>
            <a:off x="8244000" y="83664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4689" descr=""/>
          <p:cNvPicPr/>
          <p:nvPr/>
        </p:nvPicPr>
        <p:blipFill>
          <a:blip r:embed="rId1"/>
          <a:stretch/>
        </p:blipFill>
        <p:spPr>
          <a:xfrm>
            <a:off x="38160" y="1924200"/>
            <a:ext cx="9067680" cy="300960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14690"/>
          <p:cNvSpPr/>
          <p:nvPr/>
        </p:nvSpPr>
        <p:spPr>
          <a:xfrm>
            <a:off x="8172360" y="328464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3665" descr=""/>
          <p:cNvPicPr/>
          <p:nvPr/>
        </p:nvPicPr>
        <p:blipFill>
          <a:blip r:embed="rId1"/>
          <a:stretch/>
        </p:blipFill>
        <p:spPr>
          <a:xfrm>
            <a:off x="123840" y="1362240"/>
            <a:ext cx="8896320" cy="413352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13666"/>
          <p:cNvSpPr/>
          <p:nvPr/>
        </p:nvSpPr>
        <p:spPr>
          <a:xfrm>
            <a:off x="8317080" y="141300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13667"/>
          <p:cNvSpPr/>
          <p:nvPr/>
        </p:nvSpPr>
        <p:spPr>
          <a:xfrm>
            <a:off x="8265960" y="383868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2641" descr=""/>
          <p:cNvPicPr/>
          <p:nvPr/>
        </p:nvPicPr>
        <p:blipFill>
          <a:blip r:embed="rId1"/>
          <a:stretch/>
        </p:blipFill>
        <p:spPr>
          <a:xfrm>
            <a:off x="138240" y="824040"/>
            <a:ext cx="8867520" cy="52099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2642"/>
          <p:cNvSpPr/>
          <p:nvPr/>
        </p:nvSpPr>
        <p:spPr>
          <a:xfrm>
            <a:off x="8244000" y="148428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1617" descr=""/>
          <p:cNvPicPr/>
          <p:nvPr/>
        </p:nvPicPr>
        <p:blipFill>
          <a:blip r:embed="rId1"/>
          <a:stretch/>
        </p:blipFill>
        <p:spPr>
          <a:xfrm>
            <a:off x="100080" y="1662120"/>
            <a:ext cx="8943840" cy="353376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1618"/>
          <p:cNvSpPr/>
          <p:nvPr/>
        </p:nvSpPr>
        <p:spPr>
          <a:xfrm>
            <a:off x="8172360" y="227664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0593" descr=""/>
          <p:cNvPicPr/>
          <p:nvPr/>
        </p:nvPicPr>
        <p:blipFill>
          <a:blip r:embed="rId1"/>
          <a:stretch/>
        </p:blipFill>
        <p:spPr>
          <a:xfrm>
            <a:off x="66600" y="1028880"/>
            <a:ext cx="9010800" cy="48006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0594"/>
          <p:cNvSpPr/>
          <p:nvPr/>
        </p:nvSpPr>
        <p:spPr>
          <a:xfrm>
            <a:off x="4281480" y="3801960"/>
            <a:ext cx="6508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0595"/>
          <p:cNvSpPr/>
          <p:nvPr/>
        </p:nvSpPr>
        <p:spPr>
          <a:xfrm>
            <a:off x="5780160" y="3801960"/>
            <a:ext cx="6508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0596"/>
          <p:cNvSpPr/>
          <p:nvPr/>
        </p:nvSpPr>
        <p:spPr>
          <a:xfrm>
            <a:off x="7164360" y="3801960"/>
            <a:ext cx="1440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0597"/>
          <p:cNvSpPr/>
          <p:nvPr/>
        </p:nvSpPr>
        <p:spPr>
          <a:xfrm>
            <a:off x="6541920" y="4297320"/>
            <a:ext cx="6508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0598"/>
          <p:cNvSpPr/>
          <p:nvPr/>
        </p:nvSpPr>
        <p:spPr>
          <a:xfrm>
            <a:off x="5145120" y="4843440"/>
            <a:ext cx="17319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0599"/>
          <p:cNvSpPr/>
          <p:nvPr/>
        </p:nvSpPr>
        <p:spPr>
          <a:xfrm>
            <a:off x="2897280" y="5351400"/>
            <a:ext cx="18190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109569" descr=""/>
          <p:cNvPicPr/>
          <p:nvPr/>
        </p:nvPicPr>
        <p:blipFill>
          <a:blip r:embed="rId1"/>
          <a:stretch/>
        </p:blipFill>
        <p:spPr>
          <a:xfrm>
            <a:off x="171360" y="1447920"/>
            <a:ext cx="8801280" cy="3962160"/>
          </a:xfrm>
          <a:prstGeom prst="rect">
            <a:avLst/>
          </a:prstGeom>
          <a:ln w="0">
            <a:noFill/>
          </a:ln>
        </p:spPr>
      </p:pic>
      <p:sp>
        <p:nvSpPr>
          <p:cNvPr id="1471" name="矩形 109570"/>
          <p:cNvSpPr/>
          <p:nvPr/>
        </p:nvSpPr>
        <p:spPr>
          <a:xfrm>
            <a:off x="5398920" y="2709720"/>
            <a:ext cx="3276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09571"/>
          <p:cNvSpPr/>
          <p:nvPr/>
        </p:nvSpPr>
        <p:spPr>
          <a:xfrm>
            <a:off x="5437080" y="3510000"/>
            <a:ext cx="3276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09572"/>
          <p:cNvSpPr/>
          <p:nvPr/>
        </p:nvSpPr>
        <p:spPr>
          <a:xfrm>
            <a:off x="5411880" y="4309920"/>
            <a:ext cx="32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09573"/>
          <p:cNvSpPr/>
          <p:nvPr/>
        </p:nvSpPr>
        <p:spPr>
          <a:xfrm>
            <a:off x="5373720" y="4869000"/>
            <a:ext cx="3276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08545" descr=""/>
          <p:cNvPicPr/>
          <p:nvPr/>
        </p:nvPicPr>
        <p:blipFill>
          <a:blip r:embed="rId1"/>
          <a:stretch/>
        </p:blipFill>
        <p:spPr>
          <a:xfrm>
            <a:off x="138240" y="1866960"/>
            <a:ext cx="8867520" cy="3124080"/>
          </a:xfrm>
          <a:prstGeom prst="rect">
            <a:avLst/>
          </a:prstGeom>
          <a:ln w="0">
            <a:noFill/>
          </a:ln>
        </p:spPr>
      </p:pic>
      <p:sp>
        <p:nvSpPr>
          <p:cNvPr id="1476" name="矩形 108546"/>
          <p:cNvSpPr/>
          <p:nvPr/>
        </p:nvSpPr>
        <p:spPr>
          <a:xfrm>
            <a:off x="3963960" y="293832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08547"/>
          <p:cNvSpPr/>
          <p:nvPr/>
        </p:nvSpPr>
        <p:spPr>
          <a:xfrm>
            <a:off x="6694560" y="292572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08548"/>
          <p:cNvSpPr/>
          <p:nvPr/>
        </p:nvSpPr>
        <p:spPr>
          <a:xfrm>
            <a:off x="3710160" y="348444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08549"/>
          <p:cNvSpPr/>
          <p:nvPr/>
        </p:nvSpPr>
        <p:spPr>
          <a:xfrm>
            <a:off x="7050240" y="399240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08550"/>
          <p:cNvSpPr/>
          <p:nvPr/>
        </p:nvSpPr>
        <p:spPr>
          <a:xfrm>
            <a:off x="2465280" y="450072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07521" descr=""/>
          <p:cNvPicPr/>
          <p:nvPr/>
        </p:nvPicPr>
        <p:blipFill>
          <a:blip r:embed="rId1"/>
          <a:stretch/>
        </p:blipFill>
        <p:spPr>
          <a:xfrm>
            <a:off x="90360" y="1319040"/>
            <a:ext cx="8963280" cy="421992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07522"/>
          <p:cNvSpPr/>
          <p:nvPr/>
        </p:nvSpPr>
        <p:spPr>
          <a:xfrm>
            <a:off x="5335560" y="4043520"/>
            <a:ext cx="9651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07523"/>
          <p:cNvSpPr/>
          <p:nvPr/>
        </p:nvSpPr>
        <p:spPr>
          <a:xfrm>
            <a:off x="4643280" y="4568760"/>
            <a:ext cx="4249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07524"/>
          <p:cNvSpPr/>
          <p:nvPr/>
        </p:nvSpPr>
        <p:spPr>
          <a:xfrm>
            <a:off x="1081080" y="5072040"/>
            <a:ext cx="41371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0" y="765000"/>
            <a:ext cx="9096480" cy="525780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8244000" y="314172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06497" descr=""/>
          <p:cNvPicPr/>
          <p:nvPr/>
        </p:nvPicPr>
        <p:blipFill>
          <a:blip r:embed="rId1"/>
          <a:stretch/>
        </p:blipFill>
        <p:spPr>
          <a:xfrm>
            <a:off x="138240" y="952560"/>
            <a:ext cx="8867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25953" descr=""/>
          <p:cNvPicPr/>
          <p:nvPr/>
        </p:nvPicPr>
        <p:blipFill>
          <a:blip r:embed="rId1"/>
          <a:stretch/>
        </p:blipFill>
        <p:spPr>
          <a:xfrm>
            <a:off x="271440" y="1643040"/>
            <a:ext cx="8601120" cy="357192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25954"/>
          <p:cNvSpPr/>
          <p:nvPr/>
        </p:nvSpPr>
        <p:spPr>
          <a:xfrm>
            <a:off x="2516040" y="2163600"/>
            <a:ext cx="15512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25955"/>
          <p:cNvSpPr/>
          <p:nvPr/>
        </p:nvSpPr>
        <p:spPr>
          <a:xfrm>
            <a:off x="2506680" y="2684520"/>
            <a:ext cx="19209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25956"/>
          <p:cNvSpPr/>
          <p:nvPr/>
        </p:nvSpPr>
        <p:spPr>
          <a:xfrm>
            <a:off x="1944720" y="3192480"/>
            <a:ext cx="5580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25957"/>
          <p:cNvSpPr/>
          <p:nvPr/>
        </p:nvSpPr>
        <p:spPr>
          <a:xfrm>
            <a:off x="2922480" y="4221000"/>
            <a:ext cx="57531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25958"/>
          <p:cNvSpPr/>
          <p:nvPr/>
        </p:nvSpPr>
        <p:spPr>
          <a:xfrm>
            <a:off x="649440" y="4741920"/>
            <a:ext cx="16905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35169" descr=""/>
          <p:cNvPicPr/>
          <p:nvPr/>
        </p:nvPicPr>
        <p:blipFill>
          <a:blip r:embed="rId1"/>
          <a:stretch/>
        </p:blipFill>
        <p:spPr>
          <a:xfrm>
            <a:off x="81000" y="1852560"/>
            <a:ext cx="8982000" cy="315288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35170"/>
          <p:cNvSpPr/>
          <p:nvPr/>
        </p:nvSpPr>
        <p:spPr>
          <a:xfrm>
            <a:off x="5958000" y="3979800"/>
            <a:ext cx="846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35171"/>
          <p:cNvSpPr/>
          <p:nvPr/>
        </p:nvSpPr>
        <p:spPr>
          <a:xfrm>
            <a:off x="3836880" y="4487760"/>
            <a:ext cx="84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34145" descr=""/>
          <p:cNvPicPr/>
          <p:nvPr/>
        </p:nvPicPr>
        <p:blipFill>
          <a:blip r:embed="rId1"/>
          <a:stretch/>
        </p:blipFill>
        <p:spPr>
          <a:xfrm>
            <a:off x="399960" y="1380960"/>
            <a:ext cx="834408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33121" descr=""/>
          <p:cNvPicPr/>
          <p:nvPr/>
        </p:nvPicPr>
        <p:blipFill>
          <a:blip r:embed="rId1"/>
          <a:stretch/>
        </p:blipFill>
        <p:spPr>
          <a:xfrm>
            <a:off x="504720" y="2286000"/>
            <a:ext cx="8134560" cy="228600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33122"/>
          <p:cNvSpPr/>
          <p:nvPr/>
        </p:nvSpPr>
        <p:spPr>
          <a:xfrm>
            <a:off x="3544920" y="2265480"/>
            <a:ext cx="666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33123"/>
          <p:cNvSpPr/>
          <p:nvPr/>
        </p:nvSpPr>
        <p:spPr>
          <a:xfrm>
            <a:off x="2097000" y="3878280"/>
            <a:ext cx="666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图片 132097" descr=""/>
          <p:cNvPicPr/>
          <p:nvPr/>
        </p:nvPicPr>
        <p:blipFill>
          <a:blip r:embed="rId1"/>
          <a:stretch/>
        </p:blipFill>
        <p:spPr>
          <a:xfrm>
            <a:off x="438120" y="833400"/>
            <a:ext cx="8267760" cy="519120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32098"/>
          <p:cNvSpPr/>
          <p:nvPr/>
        </p:nvSpPr>
        <p:spPr>
          <a:xfrm>
            <a:off x="1881360" y="5033880"/>
            <a:ext cx="2043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32099"/>
          <p:cNvSpPr/>
          <p:nvPr/>
        </p:nvSpPr>
        <p:spPr>
          <a:xfrm>
            <a:off x="1906560" y="5567400"/>
            <a:ext cx="3097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131073" descr=""/>
          <p:cNvPicPr/>
          <p:nvPr/>
        </p:nvPicPr>
        <p:blipFill>
          <a:blip r:embed="rId1"/>
          <a:stretch/>
        </p:blipFill>
        <p:spPr>
          <a:xfrm>
            <a:off x="133200" y="1319040"/>
            <a:ext cx="8877600" cy="4219920"/>
          </a:xfrm>
          <a:prstGeom prst="rect">
            <a:avLst/>
          </a:prstGeom>
          <a:ln w="0">
            <a:noFill/>
          </a:ln>
        </p:spPr>
      </p:pic>
      <p:sp>
        <p:nvSpPr>
          <p:cNvPr id="1503" name="矩形 131074"/>
          <p:cNvSpPr/>
          <p:nvPr/>
        </p:nvSpPr>
        <p:spPr>
          <a:xfrm>
            <a:off x="4738680" y="2938320"/>
            <a:ext cx="22813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图片 130049" descr=""/>
          <p:cNvPicPr/>
          <p:nvPr/>
        </p:nvPicPr>
        <p:blipFill>
          <a:blip r:embed="rId1"/>
          <a:stretch/>
        </p:blipFill>
        <p:spPr>
          <a:xfrm>
            <a:off x="338040" y="1824120"/>
            <a:ext cx="8467920" cy="3209760"/>
          </a:xfrm>
          <a:prstGeom prst="rect">
            <a:avLst/>
          </a:prstGeom>
          <a:ln w="0">
            <a:noFill/>
          </a:ln>
        </p:spPr>
      </p:pic>
      <p:sp>
        <p:nvSpPr>
          <p:cNvPr id="1505" name="矩形 130050"/>
          <p:cNvSpPr/>
          <p:nvPr/>
        </p:nvSpPr>
        <p:spPr>
          <a:xfrm>
            <a:off x="1258920" y="2328840"/>
            <a:ext cx="79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30051"/>
          <p:cNvSpPr/>
          <p:nvPr/>
        </p:nvSpPr>
        <p:spPr>
          <a:xfrm>
            <a:off x="4230720" y="2354400"/>
            <a:ext cx="792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30052"/>
          <p:cNvSpPr/>
          <p:nvPr/>
        </p:nvSpPr>
        <p:spPr>
          <a:xfrm>
            <a:off x="1131840" y="3433680"/>
            <a:ext cx="2863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30053"/>
          <p:cNvSpPr/>
          <p:nvPr/>
        </p:nvSpPr>
        <p:spPr>
          <a:xfrm>
            <a:off x="5018040" y="3967200"/>
            <a:ext cx="20750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30054"/>
          <p:cNvSpPr/>
          <p:nvPr/>
        </p:nvSpPr>
        <p:spPr>
          <a:xfrm>
            <a:off x="1476360" y="4508640"/>
            <a:ext cx="934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图片 129025" descr=""/>
          <p:cNvPicPr/>
          <p:nvPr/>
        </p:nvPicPr>
        <p:blipFill>
          <a:blip r:embed="rId1"/>
          <a:stretch/>
        </p:blipFill>
        <p:spPr>
          <a:xfrm>
            <a:off x="366840" y="1257480"/>
            <a:ext cx="8410320" cy="434340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29026"/>
          <p:cNvSpPr/>
          <p:nvPr/>
        </p:nvSpPr>
        <p:spPr>
          <a:xfrm>
            <a:off x="3481560" y="3141720"/>
            <a:ext cx="730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29027"/>
          <p:cNvSpPr/>
          <p:nvPr/>
        </p:nvSpPr>
        <p:spPr>
          <a:xfrm>
            <a:off x="1805040" y="4487760"/>
            <a:ext cx="7300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29028"/>
          <p:cNvSpPr/>
          <p:nvPr/>
        </p:nvSpPr>
        <p:spPr>
          <a:xfrm>
            <a:off x="2681280" y="5021280"/>
            <a:ext cx="5954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3905" descr=""/>
          <p:cNvPicPr/>
          <p:nvPr/>
        </p:nvPicPr>
        <p:blipFill>
          <a:blip r:embed="rId1"/>
          <a:stretch/>
        </p:blipFill>
        <p:spPr>
          <a:xfrm>
            <a:off x="666720" y="2057400"/>
            <a:ext cx="7810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122881" descr=""/>
          <p:cNvPicPr/>
          <p:nvPr/>
        </p:nvPicPr>
        <p:blipFill>
          <a:blip r:embed="rId1"/>
          <a:stretch/>
        </p:blipFill>
        <p:spPr>
          <a:xfrm>
            <a:off x="61920" y="1647720"/>
            <a:ext cx="9020160" cy="3562560"/>
          </a:xfrm>
          <a:prstGeom prst="rect">
            <a:avLst/>
          </a:prstGeom>
          <a:ln w="0">
            <a:noFill/>
          </a:ln>
        </p:spPr>
      </p:pic>
      <p:sp>
        <p:nvSpPr>
          <p:cNvPr id="1437" name="矩形 122882"/>
          <p:cNvSpPr/>
          <p:nvPr/>
        </p:nvSpPr>
        <p:spPr>
          <a:xfrm>
            <a:off x="8244000" y="227664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1857" descr=""/>
          <p:cNvPicPr/>
          <p:nvPr/>
        </p:nvPicPr>
        <p:blipFill>
          <a:blip r:embed="rId1"/>
          <a:stretch/>
        </p:blipFill>
        <p:spPr>
          <a:xfrm>
            <a:off x="147600" y="2224080"/>
            <a:ext cx="8848800" cy="2409840"/>
          </a:xfrm>
          <a:prstGeom prst="rect">
            <a:avLst/>
          </a:prstGeom>
          <a:ln w="0">
            <a:noFill/>
          </a:ln>
        </p:spPr>
      </p:pic>
      <p:sp>
        <p:nvSpPr>
          <p:cNvPr id="1439" name="矩形 121858"/>
          <p:cNvSpPr/>
          <p:nvPr/>
        </p:nvSpPr>
        <p:spPr>
          <a:xfrm>
            <a:off x="8244000" y="285264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0833" descr=""/>
          <p:cNvPicPr/>
          <p:nvPr/>
        </p:nvPicPr>
        <p:blipFill>
          <a:blip r:embed="rId1"/>
          <a:stretch/>
        </p:blipFill>
        <p:spPr>
          <a:xfrm>
            <a:off x="85680" y="907920"/>
            <a:ext cx="9058320" cy="2286000"/>
          </a:xfrm>
          <a:prstGeom prst="rect">
            <a:avLst/>
          </a:prstGeom>
          <a:ln w="0">
            <a:noFill/>
          </a:ln>
        </p:spPr>
      </p:pic>
      <p:pic>
        <p:nvPicPr>
          <p:cNvPr id="1441" name="图片 120834" descr=""/>
          <p:cNvPicPr/>
          <p:nvPr/>
        </p:nvPicPr>
        <p:blipFill>
          <a:blip r:embed="rId2"/>
          <a:stretch/>
        </p:blipFill>
        <p:spPr>
          <a:xfrm>
            <a:off x="1476360" y="3716280"/>
            <a:ext cx="6105600" cy="120960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0835"/>
          <p:cNvSpPr/>
          <p:nvPr/>
        </p:nvSpPr>
        <p:spPr>
          <a:xfrm>
            <a:off x="8172360" y="278136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19809" descr=""/>
          <p:cNvPicPr/>
          <p:nvPr/>
        </p:nvPicPr>
        <p:blipFill>
          <a:blip r:embed="rId1"/>
          <a:stretch/>
        </p:blipFill>
        <p:spPr>
          <a:xfrm>
            <a:off x="128520" y="1109520"/>
            <a:ext cx="8886960" cy="463896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19810"/>
          <p:cNvSpPr/>
          <p:nvPr/>
        </p:nvSpPr>
        <p:spPr>
          <a:xfrm>
            <a:off x="8244000" y="177336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18785" descr=""/>
          <p:cNvPicPr/>
          <p:nvPr/>
        </p:nvPicPr>
        <p:blipFill>
          <a:blip r:embed="rId1"/>
          <a:stretch/>
        </p:blipFill>
        <p:spPr>
          <a:xfrm>
            <a:off x="157320" y="1928880"/>
            <a:ext cx="8829360" cy="300024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18786"/>
          <p:cNvSpPr/>
          <p:nvPr/>
        </p:nvSpPr>
        <p:spPr>
          <a:xfrm>
            <a:off x="8317080" y="2060640"/>
            <a:ext cx="360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17761" descr=""/>
          <p:cNvPicPr/>
          <p:nvPr/>
        </p:nvPicPr>
        <p:blipFill>
          <a:blip r:embed="rId1"/>
          <a:stretch/>
        </p:blipFill>
        <p:spPr>
          <a:xfrm>
            <a:off x="152280" y="1957320"/>
            <a:ext cx="8839440" cy="2943360"/>
          </a:xfrm>
          <a:prstGeom prst="rect">
            <a:avLst/>
          </a:prstGeom>
          <a:ln w="0">
            <a:noFill/>
          </a:ln>
        </p:spPr>
      </p:pic>
      <p:sp>
        <p:nvSpPr>
          <p:cNvPr id="1448" name="矩形 117762"/>
          <p:cNvSpPr/>
          <p:nvPr/>
        </p:nvSpPr>
        <p:spPr>
          <a:xfrm>
            <a:off x="8244000" y="1989000"/>
            <a:ext cx="3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3:04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